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A862-D314-4A40-919F-C6BABEBB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9562-CF51-4921-8A00-83D40A3E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F6C3-6931-4A9E-A766-796737F6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1FA-E326-4F1A-A963-A34F5531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16AD-DC6B-43EA-94CA-6730781C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427-DF71-4891-8571-053ABA1B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E61-D1D0-4B1A-BCFF-2016D55F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F545-ACE1-4FB5-BB17-6A3C74A9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757-9A75-4025-9346-10C96C49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7E0-2A9C-4AF4-8BB4-D43FFE48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0FE-F49B-4CE5-A670-13FBEB2D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71D6-8D30-4EB6-A4E8-270140A0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B277-FC81-4D13-8302-6F76EE321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png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0"/>
          <a:ext cx="3809880" cy="13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843280" y="1143000"/>
          <a:ext cx="3657600" cy="12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114300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28600" y="1447920"/>
          <a:ext cx="46980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447920"/>
                    <a:ext cx="469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119640" y="2278080"/>
          <a:ext cx="509760" cy="82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9640" y="2278080"/>
                    <a:ext cx="50976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28600" y="2990880"/>
          <a:ext cx="3809880" cy="136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299088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843280" y="4133880"/>
          <a:ext cx="3657600" cy="1289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43280" y="413388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28600" y="4438800"/>
          <a:ext cx="46980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" y="4438800"/>
                    <a:ext cx="469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119640" y="5268960"/>
          <a:ext cx="509760" cy="826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19640" y="5268960"/>
                    <a:ext cx="50976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28600" y="5867280"/>
          <a:ext cx="3809880" cy="1365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8600" y="5867280"/>
                    <a:ext cx="380988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843280" y="7010280"/>
          <a:ext cx="3657600" cy="1289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843280" y="701028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28600" y="7315200"/>
          <a:ext cx="469800" cy="83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8600" y="7315200"/>
                    <a:ext cx="469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119640" y="8145360"/>
          <a:ext cx="509760" cy="827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119640" y="8145360"/>
                    <a:ext cx="50976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28600" y="0"/>
          <a:ext cx="3809880" cy="13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843280" y="1143000"/>
          <a:ext cx="3657600" cy="12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114300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28600" y="3067200"/>
          <a:ext cx="3809880" cy="136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06720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843280" y="4210200"/>
          <a:ext cx="3657600" cy="128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4210200"/>
                    <a:ext cx="365760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28600" y="5962680"/>
          <a:ext cx="3809880" cy="136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5962680"/>
                    <a:ext cx="38098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843280" y="7105680"/>
          <a:ext cx="3657600" cy="1289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43280" y="7105680"/>
                    <a:ext cx="36576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01520" y="1523880"/>
          <a:ext cx="812880" cy="63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1520" y="1523880"/>
                    <a:ext cx="812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892840" y="2514600"/>
          <a:ext cx="812880" cy="63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92840" y="2514600"/>
                    <a:ext cx="812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01520" y="4648320"/>
          <a:ext cx="812880" cy="637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1520" y="4648320"/>
                    <a:ext cx="81288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892840" y="5562720"/>
          <a:ext cx="812880" cy="637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92840" y="5562720"/>
                    <a:ext cx="81288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01520" y="7467480"/>
          <a:ext cx="812880" cy="63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01520" y="7467480"/>
                    <a:ext cx="812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5943600" y="8458200"/>
          <a:ext cx="812880" cy="63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943600" y="8458200"/>
                    <a:ext cx="812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7:45:04Z</dcterms:created>
  <dc:creator>Dina Winterton</dc:creator>
  <dc:description/>
  <dc:language>en-US</dc:language>
  <cp:lastModifiedBy>Dina Winterton</cp:lastModifiedBy>
  <dcterms:modified xsi:type="dcterms:W3CDTF">2009-04-29T17:50:05Z</dcterms:modified>
  <cp:revision>1</cp:revision>
  <dc:subject/>
  <dc:title>Slide 1</dc:title>
</cp:coreProperties>
</file>